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1.jpeg" ContentType="image/jpeg"/>
  <Override PartName="/ppt/media/chimes.wav" ContentType="audio/x-wav"/>
  <Override PartName="/ppt/media/image19.png" ContentType="image/png"/>
  <Override PartName="/ppt/media/image7.jpeg" ContentType="image/jpeg"/>
  <Override PartName="/ppt/media/wind.wav" ContentType="audio/x-wav"/>
  <Override PartName="/ppt/media/image16.png" ContentType="image/png"/>
  <Override PartName="/ppt/media/image12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8.jpeg" ContentType="image/jpeg"/>
  <Override PartName="/ppt/media/whoosh.wav" ContentType="audio/x-wav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wmf" ContentType="image/x-wmf"/>
  <Override PartName="/ppt/media/image18.png" ContentType="image/png"/>
  <Override PartName="/ppt/media/image6.jpeg" ContentType="image/jpeg"/>
  <Override PartName="/ppt/media/voltage.wav" ContentType="audio/x-wav"/>
  <Override PartName="/ppt/media/image3.jpeg" ContentType="image/jpeg"/>
  <Override PartName="/ppt/media/image15.png" ContentType="image/png"/>
  <Override PartName="/ppt/media/image24.jpeg" ContentType="image/jpeg"/>
  <Override PartName="/ppt/media/image20.png" ContentType="image/png"/>
  <Override PartName="/ppt/media/hammer.wav" ContentType="audio/x-wav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2CCB-694F-49B4-BAE7-965A51EA0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2708-5E46-4830-9B63-AD6912D8C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8E20-3BA2-486D-82F3-9353AD141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F15A-D0FE-4CC9-9890-E8A720131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7DFC8-019F-4003-B05E-CA0C6461C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1DC6C-DF18-4175-A8E2-A6BB4BE44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033BD-9D01-4D9F-B0B5-1C3AA2D9E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147A6-D72F-4752-B977-053DA7E3C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3A254-B129-4C40-BF9E-E0CB0FB13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61D2D-840D-429C-9A26-24CB3FA4A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45EFD-7A80-4346-B62D-3B792D69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6F6A-AA77-4E6D-B9DD-B3D1B45AD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21FA3-EA33-4260-A1D6-28CBC007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61289-65DD-4A6A-A2D6-81A744EB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DD30B-36C1-426D-9C47-52E2352D1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C0724-1E68-4FE0-A493-4BC1FE041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6E28C-D29A-4244-96B3-96A7B816B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CA9E7-8823-48F9-8CE9-D1BC81A67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F9028-3F2C-4CD8-8538-C0E2FA07C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54D9A-F832-4858-B961-6B7AED212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D9AD1-95CE-42E0-9FDD-E0C4BC86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6779E-D374-4A9D-BFB6-073C95DE2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A9D0-9928-4F97-9D0F-F25C52972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F5413-FD0F-4EAE-93DA-2A4AAF962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C0094-B847-4EA0-937E-F1BD6D6F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2BEC5-90D3-49C8-9DAB-8A302C37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0C9F5-0D80-4A0C-B262-B7DB14B3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9A366-CA5E-4146-AA4F-AAC770DB2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9AEED-C1A0-4088-896C-3C0FED5BD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7F09B-DCE9-4C4B-A993-78E110C0F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46E36-1D05-4594-B470-432BB5891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8A847-2B43-4CDE-9132-36F39E462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40DE2-62A0-4239-99A2-94389C35F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03C2-28FA-4892-88E8-1E2F92C26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91DD7-6D5D-4072-9AE5-62EBCC286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C7951-2957-4A70-A16E-CBB03A5E7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03690-2ED1-477E-8C7D-5B8CFFB3A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D9B4A-B99A-4775-B2B8-C7DEF1CA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C5229-F935-401C-8976-3E0CBC7D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D6E11-156E-430A-A1CD-570BBFC7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FC211-6B7B-46F9-86D4-02E5B201F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4B3F3-EE5A-47B5-8DBF-6D17DA0B9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FF8EB-7F65-4206-968D-A0F65BDB5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5773A-B599-410B-B3C4-683B4281C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35E8-2654-4E8A-910C-6BC3768A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1BBAA-ABAE-429F-B153-DF08EA540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900AC-A7CF-467A-921B-7D475CB80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6F0A0-647B-42A5-80BA-F6AA0D2A0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972AD-668A-40B5-BB57-E9C9B448E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854B1-2812-4020-AED5-FD1EAB447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7ED9B-B052-4F45-A97E-A1EC94B4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D58FB-965D-45B5-8812-E733E14E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C006D-99AB-4C76-93C6-182CFBFB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681BE-66AF-4A92-AA33-75435297C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D4A46-BCFE-4A39-8EBE-B2C8F6F7E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225D-CDF5-4699-A71E-4F5A7C0D5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C0269-9F79-493E-B9ED-79FDC536C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D863-9510-4E2A-8353-70DD8F3C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0790-CF33-4CED-BADA-E90F64C2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4530-83C2-4217-84A1-32B9260E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C8713-55EB-4623-9E57-F75823560B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2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FD0D9-BC83-49DD-BE33-CAF8175D2803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87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8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9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5D481-90E5-4BAF-82D4-383550BF90C7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19655-660A-4BC3-A8A8-BDF874F7C8B8}" type="slidenum">
              <a:rPr b="0" lang="zh-CN" sz="14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9A5EC-AD43-45FE-B360-CCCDB31EDBA1}" type="slidenum">
              <a:rPr b="0" lang="zh-CN" sz="14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audio" Target="../media/voltage.wav"/><Relationship Id="rId3" Type="http://schemas.openxmlformats.org/officeDocument/2006/relationships/audio" Target="../media/voltage.wav"/><Relationship Id="rId4" Type="http://schemas.openxmlformats.org/officeDocument/2006/relationships/audio" Target="../media/voltage.wav"/><Relationship Id="rId5" Type="http://schemas.openxmlformats.org/officeDocument/2006/relationships/audio" Target="../media/wind.wav"/><Relationship Id="rId6" Type="http://schemas.openxmlformats.org/officeDocument/2006/relationships/audio" Target="../media/wind.wav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hammer.wav"/><Relationship Id="rId3" Type="http://schemas.openxmlformats.org/officeDocument/2006/relationships/audio" Target="../media/hammer.wav"/><Relationship Id="rId4" Type="http://schemas.openxmlformats.org/officeDocument/2006/relationships/audio" Target="../media/hammer.wav"/><Relationship Id="rId5" Type="http://schemas.openxmlformats.org/officeDocument/2006/relationships/audio" Target="../media/hammer.wav"/><Relationship Id="rId6" Type="http://schemas.openxmlformats.org/officeDocument/2006/relationships/audio" Target="../media/hammer.wav"/><Relationship Id="rId7" Type="http://schemas.openxmlformats.org/officeDocument/2006/relationships/audio" Target="../media/hammer.wav"/><Relationship Id="rId8" Type="http://schemas.openxmlformats.org/officeDocument/2006/relationships/audio" Target="../media/hammer.wav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hammer.wav"/><Relationship Id="rId3" Type="http://schemas.openxmlformats.org/officeDocument/2006/relationships/audio" Target="../media/hammer.wav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 txBox="1"/>
          <p:nvPr/>
        </p:nvSpPr>
        <p:spPr>
          <a:xfrm>
            <a:off x="755640" y="1125360"/>
            <a:ext cx="7345440" cy="25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河水和小船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3348000" y="2133720"/>
            <a:ext cx="50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95280" y="0"/>
            <a:ext cx="259236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li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68360" y="476280"/>
            <a:ext cx="68756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流动　流水　流感　　流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9640" y="2781360"/>
            <a:ext cx="93528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t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301120" y="3213000"/>
            <a:ext cx="1521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它们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124000" y="4365720"/>
            <a:ext cx="230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Arial"/>
              </a:rPr>
              <a:t>动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588000" y="2781360"/>
            <a:ext cx="1943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y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067280" y="5300640"/>
            <a:ext cx="53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也是　也许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>
            <a:hlinkClick r:id="" action="ppaction://hlinkshowjump?jump=lastslide"/>
          </p:cNvPr>
          <p:cNvSpPr/>
          <p:nvPr/>
        </p:nvSpPr>
        <p:spPr>
          <a:xfrm>
            <a:off x="68436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324000" y="333360"/>
            <a:ext cx="29527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cc66"/>
                </a:solidFill>
                <a:latin typeface="Arial"/>
              </a:rPr>
              <a:t>dòn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cc66"/>
                </a:solidFill>
                <a:latin typeface="Arial"/>
              </a:rPr>
              <a:t>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419640" y="1413000"/>
            <a:ext cx="252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24360" y="1268280"/>
            <a:ext cx="460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00"/>
                </a:solidFill>
                <a:latin typeface="Arial"/>
              </a:rPr>
              <a:t>动物　动作　动手　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708280"/>
            <a:ext cx="946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只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187280" y="3573360"/>
            <a:ext cx="720720" cy="1943280"/>
          </a:xfrm>
          <a:custGeom>
            <a:avLst/>
            <a:gdLst>
              <a:gd name="textAreaLeft" fmla="*/ 460440 w 720720"/>
              <a:gd name="textAreaRight" fmla="*/ 721080 w 720720"/>
              <a:gd name="textAreaTop" fmla="*/ 50400 h 1943280"/>
              <a:gd name="textAreaBottom" fmla="*/ 1892880 h 194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259360" y="3141720"/>
            <a:ext cx="9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Arial"/>
              </a:rPr>
              <a:t>zh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803840" y="328464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一只　只身一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124000" y="494172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ff"/>
                </a:solidFill>
                <a:latin typeface="Arial"/>
              </a:rPr>
              <a:t>zh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780000" y="4508640"/>
            <a:ext cx="388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00"/>
                </a:solidFill>
                <a:latin typeface="Arial"/>
                <a:ea typeface="楷体_GB2312"/>
              </a:rPr>
              <a:t>只能　只要　只是　只管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4211640" y="404640"/>
            <a:ext cx="1152360" cy="11527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0" y="5373720"/>
            <a:ext cx="1152360" cy="11523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651640" y="1628640"/>
            <a:ext cx="1152360" cy="11527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948360" y="2708280"/>
            <a:ext cx="1152720" cy="115236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907920"/>
            <a:ext cx="1152720" cy="115272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484360" y="4221000"/>
            <a:ext cx="1152720" cy="115272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401840" y="2708280"/>
            <a:ext cx="1152360" cy="115236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580000" y="3860640"/>
            <a:ext cx="1152720" cy="115272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698920" y="90792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556000" y="422280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284720" y="4064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796000" y="162864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651640" y="386064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474920" y="270828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660920" y="537372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喜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020000" y="270828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0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5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2124000" y="2060640"/>
            <a:ext cx="1008000" cy="1224000"/>
          </a:xfrm>
          <a:prstGeom prst="ellipse">
            <a:avLst/>
          </a:prstGeom>
          <a:solidFill>
            <a:srgbClr val="d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160720" y="206064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Arial"/>
                <a:ea typeface="楷体_GB2312"/>
              </a:rPr>
              <a:t>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49440" y="0"/>
            <a:ext cx="934920" cy="1052640"/>
          </a:xfrm>
          <a:prstGeom prst="ellipse">
            <a:avLst/>
          </a:prstGeom>
          <a:solidFill>
            <a:srgbClr val="d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11280" y="-27000"/>
            <a:ext cx="129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Arial"/>
                <a:ea typeface="楷体_GB2312"/>
              </a:rPr>
              <a:t>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392720" y="333360"/>
            <a:ext cx="1008000" cy="1224000"/>
          </a:xfrm>
          <a:prstGeom prst="ellipse">
            <a:avLst/>
          </a:prstGeom>
          <a:solidFill>
            <a:srgbClr val="d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429080" y="33336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Arial"/>
                <a:ea typeface="楷体_GB2312"/>
              </a:rPr>
              <a:t>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324560" y="1449360"/>
            <a:ext cx="1008360" cy="1224000"/>
          </a:xfrm>
          <a:prstGeom prst="ellipse">
            <a:avLst/>
          </a:prstGeom>
          <a:solidFill>
            <a:srgbClr val="d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361280" y="1449360"/>
            <a:ext cx="12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Arial"/>
                <a:ea typeface="楷体_GB2312"/>
              </a:rPr>
              <a:t>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5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68360" y="3500280"/>
            <a:ext cx="8316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0" spc="-1" strike="noStrike">
                <a:solidFill>
                  <a:srgbClr val="000000"/>
                </a:solidFill>
                <a:latin typeface="Arial"/>
                <a:ea typeface="楷体_GB2312"/>
              </a:rPr>
              <a:t>我有一</a:t>
            </a:r>
            <a:r>
              <a:rPr b="1" lang="zh-CN" sz="7000" spc="-1" strike="noStrike">
                <a:solidFill>
                  <a:srgbClr val="ff0000"/>
                </a:solidFill>
                <a:latin typeface="Arial"/>
                <a:ea typeface="楷体_GB2312"/>
              </a:rPr>
              <a:t>只</a:t>
            </a:r>
            <a:r>
              <a:rPr b="1" lang="zh-CN" sz="7000" spc="-1" strike="noStrike">
                <a:solidFill>
                  <a:srgbClr val="000000"/>
                </a:solidFill>
                <a:latin typeface="Arial"/>
                <a:ea typeface="楷体_GB2312"/>
              </a:rPr>
              <a:t>小花狗，我和</a:t>
            </a:r>
            <a:r>
              <a:rPr b="1" lang="zh-CN" sz="7000" spc="-1" strike="noStrike">
                <a:solidFill>
                  <a:srgbClr val="ff0000"/>
                </a:solidFill>
                <a:latin typeface="Arial"/>
                <a:ea typeface="楷体_GB2312"/>
              </a:rPr>
              <a:t>它</a:t>
            </a:r>
            <a:r>
              <a:rPr b="1" lang="zh-CN" sz="7000" spc="-1" strike="noStrike">
                <a:solidFill>
                  <a:srgbClr val="000000"/>
                </a:solidFill>
                <a:latin typeface="Arial"/>
                <a:ea typeface="楷体_GB2312"/>
              </a:rPr>
              <a:t>是好朋友。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rcRect l="20707" t="5887" r="0" b="8419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289080" y="-100080"/>
            <a:ext cx="8028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0" spc="-1" strike="noStrike">
                <a:solidFill>
                  <a:srgbClr val="000000"/>
                </a:solidFill>
                <a:latin typeface="Arial"/>
                <a:ea typeface="楷体_GB2312"/>
              </a:rPr>
              <a:t>小鱼</a:t>
            </a:r>
            <a:r>
              <a:rPr b="1" lang="zh-CN" sz="7000" spc="-1" strike="noStrike">
                <a:solidFill>
                  <a:srgbClr val="ff0000"/>
                </a:solidFill>
                <a:latin typeface="Arial"/>
                <a:ea typeface="楷体_GB2312"/>
              </a:rPr>
              <a:t>在</a:t>
            </a:r>
            <a:r>
              <a:rPr b="1" lang="zh-CN" sz="7000" spc="-1" strike="noStrike">
                <a:solidFill>
                  <a:srgbClr val="000000"/>
                </a:solidFill>
                <a:latin typeface="Arial"/>
                <a:ea typeface="楷体_GB2312"/>
              </a:rPr>
              <a:t>小河的怀抱里慢慢地游。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2232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3564000" y="260280"/>
            <a:ext cx="568800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0" spc="-1" strike="noStrike">
                <a:solidFill>
                  <a:srgbClr val="000000"/>
                </a:solidFill>
                <a:latin typeface="Arial"/>
                <a:ea typeface="楷体_GB2312"/>
              </a:rPr>
              <a:t>我喜欢妈妈，妈妈</a:t>
            </a:r>
            <a:r>
              <a:rPr b="1" lang="zh-CN" sz="7000" spc="-1" strike="noStrike">
                <a:solidFill>
                  <a:srgbClr val="ff0000"/>
                </a:solidFill>
                <a:latin typeface="Arial"/>
                <a:ea typeface="楷体_GB2312"/>
              </a:rPr>
              <a:t>也</a:t>
            </a:r>
            <a:r>
              <a:rPr b="1" lang="zh-CN" sz="7000" spc="-1" strike="noStrike">
                <a:solidFill>
                  <a:srgbClr val="000000"/>
                </a:solidFill>
                <a:latin typeface="Arial"/>
                <a:ea typeface="楷体_GB2312"/>
              </a:rPr>
              <a:t>喜欢    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zh-CN" sz="7000" spc="-1" strike="noStrike">
                <a:solidFill>
                  <a:srgbClr val="000000"/>
                </a:solidFill>
                <a:latin typeface="Arial"/>
                <a:ea typeface="楷体_GB2312"/>
              </a:rPr>
              <a:t>我。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728360" y="83664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爷爷走得很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992240" y="2060640"/>
            <a:ext cx="383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我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轻轻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的把小兔子放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550520" y="318132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小河水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轻轻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的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934640" y="4356000"/>
            <a:ext cx="3884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小狗，松鼠，兔子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它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们是好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朋友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722960" y="871560"/>
            <a:ext cx="347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上课我不做小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动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724400" y="2239920"/>
            <a:ext cx="415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一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只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小松鼠在树杈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715200" y="3422520"/>
            <a:ext cx="21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我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喜欢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班里的每一位小朋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075400" y="4836960"/>
            <a:ext cx="4935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老师不在，我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也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会好好的听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"/>
          <p:cNvGrpSpPr/>
          <p:nvPr/>
        </p:nvGrpSpPr>
        <p:grpSpPr>
          <a:xfrm>
            <a:off x="826920" y="2063880"/>
            <a:ext cx="7490160" cy="2948760"/>
            <a:chOff x="826920" y="2063880"/>
            <a:chExt cx="7490160" cy="2948760"/>
          </a:xfrm>
        </p:grpSpPr>
        <p:grpSp>
          <p:nvGrpSpPr>
            <p:cNvPr id="299" name=""/>
            <p:cNvGrpSpPr/>
            <p:nvPr/>
          </p:nvGrpSpPr>
          <p:grpSpPr>
            <a:xfrm>
              <a:off x="826920" y="3146400"/>
              <a:ext cx="7464960" cy="1866240"/>
              <a:chOff x="826920" y="3146400"/>
              <a:chExt cx="7464960" cy="1866240"/>
            </a:xfrm>
          </p:grpSpPr>
          <p:grpSp>
            <p:nvGrpSpPr>
              <p:cNvPr id="300" name=""/>
              <p:cNvGrpSpPr/>
              <p:nvPr/>
            </p:nvGrpSpPr>
            <p:grpSpPr>
              <a:xfrm>
                <a:off x="826920" y="3146400"/>
                <a:ext cx="1866240" cy="1866240"/>
                <a:chOff x="826920" y="3146400"/>
                <a:chExt cx="1866240" cy="186624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826920" y="3146400"/>
                  <a:ext cx="1866240" cy="1866240"/>
                </a:xfrm>
                <a:prstGeom prst="rect">
                  <a:avLst/>
                </a:prstGeom>
                <a:noFill/>
                <a:ln w="316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826920" y="4079520"/>
                  <a:ext cx="1866240" cy="0"/>
                </a:xfrm>
                <a:prstGeom prst="line">
                  <a:avLst/>
                </a:prstGeom>
                <a:ln w="22320">
                  <a:solidFill>
                    <a:srgbClr val="008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1760040" y="3146400"/>
                  <a:ext cx="0" cy="1866240"/>
                </a:xfrm>
                <a:prstGeom prst="line">
                  <a:avLst/>
                </a:prstGeom>
                <a:ln w="22320">
                  <a:solidFill>
                    <a:srgbClr val="008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2693520" y="3146400"/>
                <a:ext cx="1865520" cy="1866240"/>
                <a:chOff x="2693520" y="3146400"/>
                <a:chExt cx="1865520" cy="186624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2693520" y="3146400"/>
                  <a:ext cx="1865520" cy="1866240"/>
                </a:xfrm>
                <a:prstGeom prst="rect">
                  <a:avLst/>
                </a:prstGeom>
                <a:noFill/>
                <a:ln w="316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2693520" y="4079520"/>
                  <a:ext cx="1865520" cy="0"/>
                </a:xfrm>
                <a:prstGeom prst="line">
                  <a:avLst/>
                </a:prstGeom>
                <a:ln w="22320">
                  <a:solidFill>
                    <a:srgbClr val="008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3626280" y="3146400"/>
                  <a:ext cx="0" cy="1866240"/>
                </a:xfrm>
                <a:prstGeom prst="line">
                  <a:avLst/>
                </a:prstGeom>
                <a:ln w="22320">
                  <a:solidFill>
                    <a:srgbClr val="008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4559760" y="3146400"/>
                <a:ext cx="1865520" cy="1866240"/>
                <a:chOff x="4559760" y="3146400"/>
                <a:chExt cx="1865520" cy="186624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4559760" y="3146400"/>
                  <a:ext cx="1865520" cy="1866240"/>
                </a:xfrm>
                <a:prstGeom prst="rect">
                  <a:avLst/>
                </a:prstGeom>
                <a:noFill/>
                <a:ln w="316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4559760" y="4079520"/>
                  <a:ext cx="1865520" cy="0"/>
                </a:xfrm>
                <a:prstGeom prst="line">
                  <a:avLst/>
                </a:prstGeom>
                <a:ln w="22320">
                  <a:solidFill>
                    <a:srgbClr val="008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5492520" y="3146400"/>
                  <a:ext cx="0" cy="1866240"/>
                </a:xfrm>
                <a:prstGeom prst="line">
                  <a:avLst/>
                </a:prstGeom>
                <a:ln w="22320">
                  <a:solidFill>
                    <a:srgbClr val="008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6425640" y="3146400"/>
                <a:ext cx="1866240" cy="1866240"/>
                <a:chOff x="6425640" y="3146400"/>
                <a:chExt cx="1866240" cy="186624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6425640" y="3146400"/>
                  <a:ext cx="1866240" cy="1866240"/>
                </a:xfrm>
                <a:prstGeom prst="rect">
                  <a:avLst/>
                </a:prstGeom>
                <a:noFill/>
                <a:ln w="316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6425640" y="4079520"/>
                  <a:ext cx="1866240" cy="0"/>
                </a:xfrm>
                <a:prstGeom prst="line">
                  <a:avLst/>
                </a:prstGeom>
                <a:ln w="22320">
                  <a:solidFill>
                    <a:srgbClr val="008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7358760" y="3146400"/>
                  <a:ext cx="0" cy="1866240"/>
                </a:xfrm>
                <a:prstGeom prst="line">
                  <a:avLst/>
                </a:prstGeom>
                <a:ln w="22320">
                  <a:solidFill>
                    <a:srgbClr val="008000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6" name=""/>
            <p:cNvSpPr/>
            <p:nvPr/>
          </p:nvSpPr>
          <p:spPr>
            <a:xfrm>
              <a:off x="826920" y="2786040"/>
              <a:ext cx="7490160" cy="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26920" y="2427480"/>
              <a:ext cx="7490160" cy="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26920" y="2063880"/>
              <a:ext cx="7490160" cy="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26920" y="2067120"/>
              <a:ext cx="0" cy="10792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700360" y="2067120"/>
              <a:ext cx="0" cy="10792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554360" y="2067120"/>
              <a:ext cx="0" cy="10792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426360" y="2067120"/>
              <a:ext cx="0" cy="10792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299440" y="2067120"/>
              <a:ext cx="0" cy="10792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898560" y="3068640"/>
            <a:ext cx="1801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080808"/>
                </a:solidFill>
                <a:latin typeface="Arial"/>
                <a:ea typeface="楷体_GB2312"/>
              </a:rPr>
              <a:t>在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770200" y="3068640"/>
            <a:ext cx="1801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080808"/>
                </a:solidFill>
                <a:latin typeface="Arial"/>
                <a:ea typeface="楷体_GB2312"/>
              </a:rPr>
              <a:t>它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641840" y="3068640"/>
            <a:ext cx="1801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080808"/>
                </a:solidFill>
                <a:latin typeface="Arial"/>
                <a:ea typeface="楷体_GB2312"/>
              </a:rPr>
              <a:t>只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586560" y="3021120"/>
            <a:ext cx="1801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080808"/>
                </a:solidFill>
                <a:latin typeface="Arial"/>
                <a:ea typeface="楷体_GB2312"/>
              </a:rPr>
              <a:t>也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52800" y="2108160"/>
            <a:ext cx="1067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80808"/>
                </a:solidFill>
                <a:latin typeface="Comic Sans MS"/>
                <a:ea typeface="楷体_GB2312"/>
              </a:rPr>
              <a:t>zài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184920" y="2116080"/>
            <a:ext cx="840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80808"/>
                </a:solidFill>
                <a:latin typeface="Comic Sans MS"/>
                <a:ea typeface="바탕"/>
              </a:rPr>
              <a:t>t</a:t>
            </a:r>
            <a:r>
              <a:rPr b="1" lang="zh-CN" sz="5000" spc="-1" strike="noStrike">
                <a:solidFill>
                  <a:srgbClr val="080808"/>
                </a:solidFill>
                <a:latin typeface="Comic Sans MS"/>
              </a:rPr>
              <a:t>ā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9440" y="2116080"/>
            <a:ext cx="1101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80808"/>
                </a:solidFill>
                <a:latin typeface="Comic Sans MS"/>
                <a:ea typeface="楷体_GB2312"/>
              </a:rPr>
              <a:t>zh</a:t>
            </a:r>
            <a:r>
              <a:rPr b="1" lang="zh-CN" sz="5000" spc="-1" strike="noStrike">
                <a:solidFill>
                  <a:srgbClr val="080808"/>
                </a:solidFill>
                <a:latin typeface="Comic Sans MS"/>
              </a:rPr>
              <a:t>ī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918120" y="2117880"/>
            <a:ext cx="916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80808"/>
                </a:solidFill>
                <a:latin typeface="Comic Sans MS"/>
                <a:ea typeface="楷体_GB2312"/>
              </a:rPr>
              <a:t>y</a:t>
            </a:r>
            <a:r>
              <a:rPr b="1" lang="zh-CN" sz="5000" spc="-1" strike="noStrike">
                <a:solidFill>
                  <a:srgbClr val="080808"/>
                </a:solidFill>
                <a:latin typeface="Comic Sans MS"/>
              </a:rPr>
              <a:t>ě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73080" y="28440"/>
            <a:ext cx="8459640" cy="66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Arial"/>
                <a:ea typeface="楷体_GB2312"/>
              </a:rPr>
              <a:t>小船躺在河的怀里，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慢慢</a:t>
            </a:r>
            <a:r>
              <a:rPr b="1" lang="zh-CN" sz="5000" spc="-1" strike="noStrike">
                <a:solidFill>
                  <a:srgbClr val="ffffff"/>
                </a:solidFill>
                <a:latin typeface="Arial"/>
                <a:ea typeface="楷体_GB2312"/>
              </a:rPr>
              <a:t>地游。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Arial"/>
                <a:ea typeface="楷体_GB2312"/>
              </a:rPr>
              <a:t>河水紧抱着小船，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轻轻</a:t>
            </a:r>
            <a:r>
              <a:rPr b="1" lang="zh-CN" sz="5000" spc="-1" strike="noStrike">
                <a:solidFill>
                  <a:srgbClr val="ffffff"/>
                </a:solidFill>
                <a:latin typeface="Arial"/>
                <a:ea typeface="楷体_GB2312"/>
              </a:rPr>
              <a:t>地</a:t>
            </a:r>
            <a:r>
              <a:rPr b="1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流</a:t>
            </a:r>
            <a:r>
              <a:rPr b="1" lang="zh-CN" sz="5000" spc="-1" strike="noStrike">
                <a:solidFill>
                  <a:srgbClr val="ffffff"/>
                </a:solidFill>
                <a:latin typeface="Arial"/>
                <a:ea typeface="楷体_GB2312"/>
              </a:rPr>
              <a:t>。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它</a:t>
            </a:r>
            <a:r>
              <a:rPr b="1" lang="zh-CN" sz="5000" spc="-1" strike="noStrike">
                <a:solidFill>
                  <a:srgbClr val="ffffff"/>
                </a:solidFill>
                <a:latin typeface="Arial"/>
                <a:ea typeface="楷体_GB2312"/>
              </a:rPr>
              <a:t>们</a:t>
            </a:r>
            <a:r>
              <a:rPr b="1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在</a:t>
            </a:r>
            <a:r>
              <a:rPr b="1" lang="zh-CN" sz="5000" spc="-1" strike="noStrike">
                <a:solidFill>
                  <a:srgbClr val="ffffff"/>
                </a:solidFill>
                <a:latin typeface="Arial"/>
                <a:ea typeface="楷体_GB2312"/>
              </a:rPr>
              <a:t>说</a:t>
            </a:r>
            <a:r>
              <a:rPr b="1" lang="zh-CN" sz="5000" spc="-1" strike="noStrike">
                <a:solidFill>
                  <a:srgbClr val="ff00ff"/>
                </a:solidFill>
                <a:latin typeface="Arial"/>
                <a:ea typeface="楷体_GB2312"/>
              </a:rPr>
              <a:t>悄悄话</a:t>
            </a:r>
            <a:r>
              <a:rPr b="1" lang="zh-CN" sz="5000" spc="-1" strike="noStrike">
                <a:solidFill>
                  <a:srgbClr val="ffffff"/>
                </a:solidFill>
                <a:latin typeface="Arial"/>
                <a:ea typeface="楷体_GB2312"/>
              </a:rPr>
              <a:t>：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Arial"/>
                <a:ea typeface="楷体_GB2312"/>
              </a:rPr>
              <a:t>我们是最好的</a:t>
            </a:r>
            <a:r>
              <a:rPr b="1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朋友</a:t>
            </a:r>
            <a:r>
              <a:rPr b="1" lang="zh-CN" sz="5000" spc="-1" strike="noStrike">
                <a:solidFill>
                  <a:srgbClr val="ffffff"/>
                </a:solidFill>
                <a:latin typeface="Arial"/>
                <a:ea typeface="楷体_GB2312"/>
              </a:rPr>
              <a:t>。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0" y="3427560"/>
            <a:ext cx="3095640" cy="343044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1692360" y="404640"/>
            <a:ext cx="1004400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0" spc="-1" strike="noStrike">
                <a:solidFill>
                  <a:srgbClr val="000000"/>
                </a:solidFill>
                <a:latin typeface="Arial"/>
                <a:ea typeface="楷体_GB2312"/>
              </a:rPr>
              <a:t>再见</a:t>
            </a:r>
            <a:endParaRPr b="0" lang="en-US" sz="2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35" name=""/>
          <p:cNvGrpSpPr/>
          <p:nvPr/>
        </p:nvGrpSpPr>
        <p:grpSpPr>
          <a:xfrm>
            <a:off x="2340000" y="3429000"/>
            <a:ext cx="2011320" cy="2011320"/>
            <a:chOff x="2340000" y="3429000"/>
            <a:chExt cx="2011320" cy="2011320"/>
          </a:xfrm>
        </p:grpSpPr>
        <p:pic>
          <p:nvPicPr>
            <p:cNvPr id="336" name="" descr=""/>
            <p:cNvPicPr/>
            <p:nvPr/>
          </p:nvPicPr>
          <p:blipFill>
            <a:blip r:embed="rId2"/>
            <a:stretch/>
          </p:blipFill>
          <p:spPr>
            <a:xfrm>
              <a:off x="2340000" y="3429000"/>
              <a:ext cx="2011320" cy="201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2865600" y="3502080"/>
              <a:ext cx="10951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她</a:t>
              </a:r>
              <a:endParaRPr b="0" lang="en-US" sz="1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6012000" y="3357720"/>
            <a:ext cx="2011320" cy="2082600"/>
            <a:chOff x="6012000" y="3357720"/>
            <a:chExt cx="2011320" cy="2082600"/>
          </a:xfrm>
        </p:grpSpPr>
        <p:pic>
          <p:nvPicPr>
            <p:cNvPr id="339" name="" descr=""/>
            <p:cNvPicPr/>
            <p:nvPr/>
          </p:nvPicPr>
          <p:blipFill>
            <a:blip r:embed="rId3"/>
            <a:stretch/>
          </p:blipFill>
          <p:spPr>
            <a:xfrm>
              <a:off x="6012000" y="3429000"/>
              <a:ext cx="2011320" cy="201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6608880" y="3357720"/>
              <a:ext cx="10951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他</a:t>
              </a:r>
              <a:endParaRPr b="0" lang="en-US" sz="1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rcRect l="17677" t="0" r="13183" b="0"/>
          <a:stretch/>
        </p:blipFill>
        <p:spPr>
          <a:xfrm>
            <a:off x="4248000" y="765000"/>
            <a:ext cx="5148360" cy="6093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44360" y="28440"/>
            <a:ext cx="8460000" cy="66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妈妈的怀抱，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是</a:t>
            </a: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楷体_GB2312"/>
              </a:rPr>
              <a:t>轻轻流</a:t>
            </a:r>
            <a:r>
              <a:rPr b="1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动的河水。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我就是那</a:t>
            </a: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楷体_GB2312"/>
              </a:rPr>
              <a:t>只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楷体_GB2312"/>
              </a:rPr>
              <a:t>喜欢</a:t>
            </a:r>
            <a:r>
              <a:rPr b="1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撒娇的小船。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妈妈，妈妈，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我们</a:t>
            </a: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楷体_GB2312"/>
              </a:rPr>
              <a:t>也</a:t>
            </a:r>
            <a:r>
              <a:rPr b="1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是好</a:t>
            </a:r>
            <a:r>
              <a:rPr b="1" lang="zh-CN" sz="5000" spc="-1" strike="noStrike">
                <a:solidFill>
                  <a:srgbClr val="ff0000"/>
                </a:solidFill>
                <a:latin typeface="Arial"/>
                <a:ea typeface="楷体_GB2312"/>
              </a:rPr>
              <a:t>朋友</a:t>
            </a:r>
            <a:r>
              <a:rPr b="1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2451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836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00"/>
                </a:solidFill>
                <a:latin typeface="Arial"/>
                <a:ea typeface="黑体"/>
              </a:rPr>
              <a:t>河水像一位温柔的母亲，紧紧拥抱着小船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00"/>
                </a:solidFill>
                <a:latin typeface="Arial"/>
                <a:ea typeface="黑体"/>
              </a:rPr>
              <a:t>小船在河水妈妈的怀抱里，慢慢地漂浮，撒娇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00"/>
                </a:solidFill>
                <a:latin typeface="Arial"/>
                <a:ea typeface="黑体"/>
              </a:rPr>
              <a:t>他们像是一对母子，又像是一对无话不谈的好朋友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755640" y="1484280"/>
            <a:ext cx="752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说一说，生活中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妈　妈　是　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样　关心你的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547640" y="1197000"/>
            <a:ext cx="6696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9900ff"/>
                </a:solidFill>
                <a:latin typeface="Arial"/>
                <a:ea typeface="楷体_GB2312"/>
              </a:rPr>
              <a:t>你会经常跟妈妈说说你的想法和秘密吗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539640" y="0"/>
            <a:ext cx="23050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mà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慢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627280" y="1268280"/>
            <a:ext cx="28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484360" y="1773360"/>
            <a:ext cx="644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3366"/>
                </a:solidFill>
                <a:latin typeface="Arial"/>
                <a:ea typeface="楷体_GB2312"/>
              </a:rPr>
              <a:t>快慢　慢走　慢慢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50920" y="3284640"/>
            <a:ext cx="287964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qīn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268360" y="4221000"/>
            <a:ext cx="61930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ff"/>
                </a:solidFill>
                <a:latin typeface="Arial"/>
                <a:ea typeface="楷体_GB2312"/>
              </a:rPr>
              <a:t>轻轻地　轻重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ff"/>
                </a:solidFill>
                <a:latin typeface="Arial"/>
                <a:ea typeface="楷体_GB2312"/>
              </a:rPr>
              <a:t>轻松　轻巧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2124000" y="333360"/>
            <a:ext cx="22320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én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356000" y="1628640"/>
            <a:ext cx="50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859280" y="476280"/>
            <a:ext cx="331164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yǒ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3284640"/>
            <a:ext cx="482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友好　友谊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友情　友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1547640" y="1052640"/>
            <a:ext cx="172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1280" y="333360"/>
            <a:ext cx="338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99"/>
                </a:solidFill>
                <a:latin typeface="黑体"/>
                <a:ea typeface="黑体"/>
              </a:rPr>
              <a:t>Xǐ</a:t>
            </a:r>
            <a:r>
              <a:rPr b="1" lang="zh-CN" sz="6000" spc="-1" strike="noStrike">
                <a:solidFill>
                  <a:srgbClr val="cc0099"/>
                </a:solidFill>
                <a:latin typeface="黑体"/>
                <a:ea typeface="黑体"/>
              </a:rPr>
              <a:t>　</a:t>
            </a:r>
            <a:r>
              <a:rPr b="1" lang="zh-CN" sz="6000" spc="-1" strike="noStrike">
                <a:solidFill>
                  <a:srgbClr val="cc0099"/>
                </a:solidFill>
                <a:latin typeface="黑体"/>
                <a:ea typeface="黑体"/>
              </a:rPr>
              <a:t>huā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99"/>
                </a:solidFill>
                <a:latin typeface="黑体"/>
                <a:ea typeface="黑体"/>
              </a:rPr>
              <a:t>喜　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159280" y="2492280"/>
            <a:ext cx="552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99"/>
                </a:solidFill>
                <a:latin typeface="Arial"/>
                <a:ea typeface="楷体_GB2312"/>
              </a:rPr>
              <a:t>喜欢　喜爱　喜庆　喜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187280" y="4292640"/>
            <a:ext cx="831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99"/>
                </a:solidFill>
                <a:latin typeface="Arial"/>
                <a:ea typeface="楷体_GB2312"/>
              </a:rPr>
              <a:t>欢快　欢乐　欢迎　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01:09:26Z</dcterms:created>
  <dc:creator>JUJUMAO</dc:creator>
  <dc:description/>
  <dc:language>en-US</dc:language>
  <cp:lastModifiedBy>小强</cp:lastModifiedBy>
  <dcterms:modified xsi:type="dcterms:W3CDTF">2007-11-13T10:18:08Z</dcterms:modified>
  <cp:revision>19</cp:revision>
  <dc:subject/>
  <dc:title>幻灯片 1</dc:title>
</cp:coreProperties>
</file>